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ABD930-5BF2-4DFF-B9D2-BF6A647C7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73CDC5-542F-40BF-B5DD-D08B94AB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913837-61C1-4D29-B102-71123B1F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need professional learning on ck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215C87-5136-4AB0-8E92-76B09F0C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CAEB65-C328-4BE4-8B31-A969208B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219D4F-57CA-4658-96D3-F698ADFD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DB6298-AE87-4127-B295-2124B667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92146E-7849-410E-90B1-033E99B2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84D0E2-3557-4021-B7FE-FCB9C40A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F2E151-DC86-4709-9FEB-11DF0337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7AD1B8-85C0-4259-8E57-E633D756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0DE1C1-6804-4F39-B65C-CBA17857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622DCC-CF2E-445A-B5D3-D9EAC6FC4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2D1BD8-DC85-4B06-A7E9-8E0B26A5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C92A6B-730A-432B-AE70-5FFAA71B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E4A896-9F0B-4CA3-AA16-ECF12C70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965B84-1E16-469F-8F67-C614C24B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CA7770-1CF8-4A22-BAC7-B307AAD2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A85784-42BC-48FE-A321-9D1F71D1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E2E64C-18BE-4238-8925-7BE1F385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325555-CF93-4324-B027-0A9FA1C7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going to explore how anticipating student difficulties can affect our lesson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C49533-4467-4943-9146-E0013C1D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C273C6-DE85-4127-BCF4-E9CB1CA5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377543-2D69-4D96-8F11-F534DF44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CA5FD3-5304-4842-B4C9-6C763B16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176FFB-1163-4332-969B-C09A6FBB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19A308-7587-4FE1-9462-506AE258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9BA376-0E5D-4A33-90DB-3F840714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69BBCB-CAE9-43A8-BFBD-156A8212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F22C84-E849-484C-BCBF-5CC55760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A2C14E-4532-413E-B9D8-D81B8313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3B9584-01E8-4303-A0F7-8BA6EDB8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8DB398-6260-4C0C-8180-74F1BB28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3DD545-DC5C-40A2-9D87-FF9D6979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C92228-B37E-435A-BD55-43BA0D02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DF9-A200-4F03-98F9-300E3E7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A2D-F230-4612-B2B4-0E501D11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633-8D2A-427E-8BEA-89C1829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2F6-2C93-4AF4-B866-75008F44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2D91-CA6F-42F0-B028-03C94458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2A83-40B1-4D9D-8A8E-F0DAD01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096E-FBD2-48C6-932B-AA76A1FD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105A-D15E-43D9-9B0B-E337BF6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FA4C-5101-4BFE-96D1-6A52A829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0F4A-04B7-466B-9EA0-196F8F21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C5ED-4AD2-447F-8498-BD4F5C6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EC4-A7A2-408C-85BB-5FA3BB3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1D2-734A-48B8-8ED3-36FAE6F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4EB-966D-4C1B-A52A-CA068DE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E69-A4BB-42C4-963E-24F6900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0F0B-4EAB-490F-A9C8-A7496A5A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EA72-B04B-4390-A375-FFA00C40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FB4-FAEB-4305-9451-BEA801A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B61-F30A-4250-9D05-FDE885D6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BE6-E815-413B-A10B-E0912BF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CD1-EAA1-425D-9677-2AB0E10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7E0-0ABA-44F2-81D4-936A8421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38F-2DA7-4FC2-B09A-25CB092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9D8-0684-4D98-B3B9-382A77F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F8C-1658-48C8-A31B-6667E0195BC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773-D985-449F-AB6A-D2AB1864925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3505320" y="510552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 Unicode MS"/>
              </a:rPr>
              <a:t>Plenary 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009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9337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BLM2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81080"/>
            <a:ext cx="78739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… whole-number percents greater than 100%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7D9F-13AD-4FC7-A9E3-E4B821917E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676520"/>
            <a:ext cx="82296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2B7B-5C48-450C-9060-C1A5F42E21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981080"/>
            <a:ext cx="795024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F8B-00EC-41CC-8D95-C1ED815712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4300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447920"/>
            <a:ext cx="80010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E99-98E7-4150-BB95-C848AAF443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Why you want                   to do this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308-DE5A-41F7-9944-7AD555B044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09480" y="2133720"/>
            <a:ext cx="7874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DCCF-5FD7-4D28-B0BA-B4BB4C7DD8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0666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752480"/>
            <a:ext cx="76975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tated goals 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8EB7-AE61-42C2-8809-3CFF5C34BA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43434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patterning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 a growing patter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re multiple representat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D50-D9D3-4EFB-8C2F-29B4EACB35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Picture 1.pn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6174-91D8-4B04-AA87-00E914EEBC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icture 2.png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29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676520" y="51055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 “right way” to formulate the construction of  ter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194-362E-48C0-9954-3DC88F144F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3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395280" y="2708280"/>
            <a:ext cx="835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the limitations of recursive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33520" y="2057400"/>
            <a:ext cx="756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ing the validity of all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0" y="3500280"/>
            <a:ext cx="988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students to move on from recursive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etting Lesson Goal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553-22FC-46CB-9F9D-69A3514BB7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48FB-FE3F-4C62-8C18-D4D109A5E5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BEAE-849C-4B0E-9967-8F623CE96A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0666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752480"/>
            <a:ext cx="7697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tated goals 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F53F-3FEA-406B-BD2E-AB4FADAEE7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90720" y="27432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patterning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 a growing patter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re multiple representat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 about recognizing when it’s useful to use a generalization when describing a patte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DFCB-DF50-487E-9DA0-51EC39E7D3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85800" y="685800"/>
            <a:ext cx="73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95280" y="1863720"/>
            <a:ext cx="8381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C15-08C9-40B9-BAB8-81A814710A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236232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have handed out a list of stated goals BLM 2.2 taken from a series of lessons on linear equations in a grade 9 tex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AC7-0C74-403F-8751-232403BFBD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Activ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21337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ake 2 of these goals and focus them to relate more explicitly to one or more of the big ideas. To do th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2F7-26DC-4A2E-80D0-E18AD5F0F5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22860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least 2 new colleagues. Be ready to share. You may use the provided BLM 2.1 models to help you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EA1D-34B8-4E50-B79F-462A15AF26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190512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FB1C-387D-44C9-B38B-99476DE674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286000"/>
            <a:ext cx="7696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f you begins and asks the next perso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B756-9DE2-4B46-BC21-BEFA9592B3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8380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Remembe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8288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olidating questions are a way to see if students have met the goal. They are not “exercises”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B95B-1EFD-4A9F-A478-087FD0D1C6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621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57200" y="1828800"/>
            <a:ext cx="83059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your goal and associated consolidating question beside the appropriate Big Idea elicit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BF2-276B-4BD4-AC11-5EB3226299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3520" y="236232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E01-D20C-4076-89A8-044772D4AB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29528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Anticipating problems– impact on lesson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A5A-4953-48D5-8177-6E9E846FDC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094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Suppo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00200"/>
            <a:ext cx="83059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2A30-C604-428A-99A5-45B75F92D0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1600200"/>
            <a:ext cx="795024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7352-4E75-4376-9245-F232057D06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6094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1828800"/>
            <a:ext cx="795024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r initial goal relates to one on the list I shared with you. Which o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let’s make a list of a “top 5” anticipated problems. Keep the lis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EDAA-CE20-41C1-917D-B2ED5D3837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1523880"/>
            <a:ext cx="83818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41FF-5351-4C9C-BEEE-BAF067A537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Then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828800"/>
            <a:ext cx="80773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ose one of those new goals you decided up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B10D-C912-4419-9AD1-71642FDCB7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522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1828800"/>
            <a:ext cx="83059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the other pair too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8F0C-88FE-4095-99B0-F42016045E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5146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1C3-5328-4FA2-8189-9DCB207E27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80880" y="17524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personalize the goal and then anticipate student problems;  s/he’ll just deal with them as they ar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2987-9DEE-41B2-8654-FA9DFDBD6E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09480" y="1752480"/>
            <a:ext cx="77979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erse roles and play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93B-01F5-4926-879B-EDF9929714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2209680"/>
            <a:ext cx="8026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 – that person gets the last wor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836-C6E9-4D61-B35A-EB7F9851CE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5800" y="236232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BCF-53D1-4ED4-B4EC-25D061C79C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19320" y="214956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2E6D-7A15-4144-AD5C-2AC8C6A5C2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143000" y="21337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includes knowing why you have that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’s the point of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6D6-B3D2-43A9-A4BA-62AC5DD925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2209680"/>
            <a:ext cx="779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E7A-1592-4AB4-A161-AE2F4386EC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4:10:23Z</dcterms:created>
  <dc:creator>Peel District School Board</dc:creator>
  <dc:description/>
  <dc:language>en-US</dc:language>
  <cp:lastModifiedBy>Kathy Kubota-Zarivnij</cp:lastModifiedBy>
  <dcterms:modified xsi:type="dcterms:W3CDTF">2009-08-20T18:05:37Z</dcterms:modified>
  <cp:revision>28</cp:revision>
  <dc:subject/>
  <dc:title>Coaching for Math GAINS Professional Learning</dc:title>
</cp:coreProperties>
</file>